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B4B-89C0-49AD-9CF7-C5696EF4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273-7AF9-458C-8F36-491B636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9E3-2966-4ADA-88B5-3D58EBFF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EF9-E66D-4BBD-B434-50CE101B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ECF-C5C6-4F88-83F2-4FFEB1A3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FE3-ABF2-4AA3-9C4C-D3E66653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A09-BC1B-4346-B40D-A6263F47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535-E7B2-4CC3-BDE7-CFD1714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4D8-3341-4DBB-ABDD-74A06543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335-72F2-4978-A881-A4663CCB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94B-A2C8-4537-8C8A-986D59A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351-9A38-4CE3-83D0-B935F30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ED3A-D4AC-48BB-A45A-8DB7C6C09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DERCRAIG                                CALDERCRAIG  100TH                       CLARKSTON                                CLYDESDALE                                 COATBRIDGE                         COAT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137160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ATBRIDGE  WEST  END                 COATBRIDGE  WEST  END                   DENBEATH                                   GARROWHILL                         GARROWHILL  50TH                        GARTCO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COSH                                          GARTCOSH                                     GARTCOSH                               GARTCOSH  75TH              GARTLOCH  HOSPITAL  100TH           GARTSHER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RTSHERRIE                                      GARTSHERRIE                              GLENGOWAN                                 GLENGOWAN                                 GLENGOWAN                    GLENGOW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13240" y="-79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58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44880" y="198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06064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976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7240" y="1844640"/>
            <a:ext cx="106056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977240" y="2133720"/>
            <a:ext cx="969840" cy="93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60520" y="3645000"/>
            <a:ext cx="107928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2144880" y="3645000"/>
            <a:ext cx="107928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3584520" y="36450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5240160" y="3789360"/>
            <a:ext cx="8226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668196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372888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608880" y="5516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7905600" y="537372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804852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631800" y="558972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3513240" y="260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4881600" y="0"/>
            <a:ext cx="1427040" cy="133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46596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2216160" y="333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776124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88880" y="333360"/>
            <a:ext cx="1050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30:56Z</dcterms:created>
  <dc:creator>JOHN YOUNG</dc:creator>
  <dc:description/>
  <dc:language>en-US</dc:language>
  <cp:lastModifiedBy>JY</cp:lastModifiedBy>
  <cp:lastPrinted>1999-12-15T20:59:08Z</cp:lastPrinted>
  <dcterms:modified xsi:type="dcterms:W3CDTF">2008-05-20T08:12:41Z</dcterms:modified>
  <cp:revision>29</cp:revision>
  <dc:subject/>
  <dc:title>No Slide Title</dc:title>
</cp:coreProperties>
</file>